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3FC-4402-48C5-9854-EA2C9148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2D5-E5C4-4921-8BC2-19753F3E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C7D33-B922-4CF9-B2E3-AED396A5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5CFA4-444E-4638-9B49-C5E58A5A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99927-86A4-4C5F-81ED-9F4AF238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0E509-0A79-43A5-86CA-01B03842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91AF9-D2E3-42E1-9306-1A54664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E2233-7CD4-4F98-8FBF-C720EF1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36E4C-FA31-4AD5-BCFE-1CC5E956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446C2-78EE-43FC-A05F-715286AF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80286-ED27-4B59-98DA-477FD7A1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0A320-24AA-470A-909E-160C34FB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C96-11CD-44C5-B087-C1C4DA34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1B26B-4BB2-46EE-8740-BA7DE685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1C3B4-4F1C-4605-83C2-D9A8CFA8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6184A-D758-45F4-A5DE-965C01E3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97FC7-3B5F-4A5F-8701-405A7F3B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8FACF-3DA3-404C-83A6-DB10DF2F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8C148-6C47-4227-8834-DB56C1E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C4EDC-5F4D-4534-82A4-236F023D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DCE99-58BB-40D0-A940-71034E84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E9B01-F2DD-4ECE-ABF9-25B776BF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2618D-28D6-4D66-B8D0-52DA3541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C89-81E6-45BF-BE18-122FD589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276CF-ED74-4687-B25E-A953B2AE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026E1-F86D-4D23-9C87-734C7C6D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3A7C5-FAF1-4A25-8099-9C4BE78A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4BD34-33FA-4EE4-9396-9A73A43C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40CFE-CD74-40B0-BBCD-BC006CB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8A603-08DA-4CA5-B364-4104C69C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22EB4-0979-473C-BCAF-58E1ED47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22833-CA8B-4F57-B555-40AE067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3D29B-C188-4172-A905-FA8F743C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4F515-DD46-4FEA-B207-18C176C2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1580-DF87-4B3F-8DF3-824F0CF8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B0508-3F0B-4DF3-96DF-408A20D6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A9510-724F-43C5-9499-B44782EF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9FAC9-678E-4B3E-BE51-680E5AF6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3917A-7B82-4CF2-9669-F949D89F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5472B-4D79-4ADE-B8D3-E19C4B37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8C4FA-35CE-4E06-9CBF-2E2B2FC6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2C940-5AE2-4835-8E0B-72326384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AA2CD-E086-43AD-9EDE-A9CC34BA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F1007-3ACC-46E9-8DFD-6673D2E0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76E5A-C019-49F4-BC19-71CF07D6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F657-5854-4803-97D7-6B7F527B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AE9AC-1492-4667-9CB8-843F6A91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E1CEB-BB61-4F2B-BA7A-C12F19BA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64BE8-0450-4E97-B5AB-DAEB52DD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7DC99-70B1-4C0A-B950-6395B487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470A3-2131-44F5-B506-09E9B83D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7298D-A735-487F-A054-6CEA06EF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17F09-A8B9-49AB-A707-5C6CC5A9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ECE41-164B-44CE-8B51-CF896F4A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5D90C-DD6E-4141-8871-106BF449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A421E-202A-4107-B40F-403F2BD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C8CC-2497-4301-9167-49E2BE2D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68DFC-4F20-41C1-A10B-D2B7B30A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19149-4184-482E-9C79-55E300F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73CF7-238D-400F-8DB9-7124592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B8955-5EB4-4F2A-B931-62A12005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213D0-7AE9-43E1-84ED-D9AC519A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6BD2F-8069-4D5E-9ADE-0743F7B5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DC486-FC93-400B-8626-8423FD58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A8FB7-7350-461E-A3B2-4BE0C49B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71452-E851-48DD-B971-F041B78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EBCF7-FF04-4422-8400-E45E0165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BD70-26AA-4516-A793-54145F5B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65892-C534-4E2D-85C3-A2F382BD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2961C-C64E-4F70-AE30-1BAD6FE5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077CC-3B54-4A88-B900-115BA155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620A2-4654-4F2C-B486-62515BC9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7AA1E-C3BB-4F16-A3E0-8D0E7BF8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D75DD-54C5-4224-BBAF-F0CA8CC8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51D92-1855-43A5-9A90-209C9FE4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D6F2F-BD56-44C2-97D9-D02BC547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60F8D-F62C-4998-93FA-4C794698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56CD1-CD19-4C37-BAC8-8AE914EA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C993-081A-4B77-96BB-2E68DA0C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02F1B-66A4-4562-A851-42F8DC8C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05D89-C8D2-426C-A02F-FC6244C2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795D6-DFD4-4725-B644-0F039329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2BED4-FE48-4C0D-AC73-8646BE7C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1E5F90-3760-4E51-90D1-8FA75B4E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7A253-F903-4C21-8601-71009DDB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807A8B-7816-4228-849D-B3890238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C94CC-9CA0-447B-A1B1-661A1F1E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5E1A6-9E19-417B-A422-1C57EDC9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588E2-DD1A-4C6B-B1FE-937553C1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CA65-595D-4A59-9889-9E082B7E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A4535-383B-44CF-AF29-9FD4CA4A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A9398-2199-4492-B5C1-9F5DBD1A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EEE20C-F99F-4BB7-A122-1086BCD7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2523A-A0DC-4CB6-BBA1-601A0920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576DC-1DB5-4515-B7BC-A4BF1AC4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F2BA1-C1FB-4E53-B7C1-69108B0A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DCD00-BBB6-4205-8915-E3ADDDEE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F2D29-4810-423A-90C2-1F517A8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CCD7A-52BE-4D82-90BA-77BB5187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9CCF0-4499-487D-A31E-0413FB42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48CC-C4C9-4E75-8CE6-54B05979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D048A4-7A81-4366-A948-C77BAC91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FBF8D-2732-4CEB-8447-5CBF983B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A484FE-2062-4182-A556-9403CAF9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8E023-7B0E-49DC-AB3F-B70589C2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05A61-FCD3-4E5C-8977-DBA57C3F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06077-5076-47E3-AEAB-F773E234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7A9F6-6D99-4BA7-A6BC-683263AD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71519-BCD2-4BC4-9FDC-D83CCE8A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AB8D0A-3271-46F3-A2F8-0F57E250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11C46-403D-405D-8AF8-6A39099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8F3-A302-48D0-9897-0F2949DF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82E4-809C-4C24-B44C-B8BAEC32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3EB67-F595-40AF-B514-9CE3D94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188466-1D46-424A-840E-67211340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30A07-05D4-45A9-A71C-2E26EBBE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F88EAC-F487-42CD-AA7B-75C4D596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08FD5-10E1-43F7-AEBF-BBABABF5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A6C40A-7B89-411A-9B82-FC960827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82F17-9BBC-4081-90D6-215D9CCE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7FB5E-0A49-4DFC-96BD-AD75DCCB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56E97-38EB-4C0C-A9A9-8F501243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BA2F76-C441-4C1C-ACB0-290E90DD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121E-6E24-4FCB-BEA4-2C3E51DD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819A0-C0FF-4D7F-AC76-39AC7863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A0532-B808-4C06-8A4B-0B2E2653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92CE7E-8866-43C3-ACB0-FA6683E6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2A747-EC64-432A-AF51-5DC4C57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D7B3E-9FA5-4C0D-B5CE-D51FCD29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DACF0-CDAF-42F7-AAF4-37CDB8F1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BB930-F14C-46C4-9555-F513DDC4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BB5DF-AB28-4514-8234-5D3E6A90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E9C57-97E8-457C-B023-7D22B67D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6D6AF1-9455-40F9-BFB8-D2C23AC3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7C9D-5B2A-4E7A-929B-F07410F7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10E82F-6B18-4BFE-B711-B942E3BF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8C3EE-78E3-41D8-B712-6303AB8D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E1637-9148-4FC6-B2A5-124C2277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81E7D-2F0C-4C5A-8B0F-6802AF36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848F17-DA25-4CE7-B648-75F6FCF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DB58B1-33D1-469B-84BE-BEA8117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5BB87-6DCC-4853-B147-7DA8F825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127E4-225E-468F-8616-CE1E3877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D0F71-0F25-4D85-B05B-2A88E746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C8E5DC-3AFE-4A54-872B-D416A5CE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EC1B-A751-463A-90EE-2878EC58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C0528-9CF2-4431-83B3-58EDA188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506E9-EFA9-4620-8E16-D609735C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3D6EFC-44A0-4EFE-B6F7-3D57FBFA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9FADB-1456-4702-B955-2852560D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394D1-0B6B-43A0-9787-EEE8260B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129A0-7590-4AA3-883A-E1942D58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D639A-1D4E-4306-BBBD-B94639F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5FAD7F-7BF7-4DCA-B7D5-ACF67B8A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917DD5-116E-4066-B52F-A5EEC9C4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59CB4-7C25-47EF-8E46-74596DD3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F1FB-26A8-44B8-8E9E-2020E4C2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F0BE69-2ED3-4F72-9865-57857113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032D4E-059F-4308-BACF-66940511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C2C294-D5E6-4FB2-86E1-538394F5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0F3E3-D32A-43CF-A5B6-5CF4EF3E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4ECE02-3214-4B0B-9AE0-D5F990DA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9C6ADF-F2B7-4BF6-9C7F-5BDE012A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23FCB-F582-427E-AD86-846020CD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5ADD5E-1979-4D4F-A852-61E5694B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C123C-C534-417D-8B93-022B2293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7D9A9A-109A-4C92-AB8F-3CBFFE21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AED9-4C88-4212-8332-A1600659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5841A6-820C-495C-85F6-6FB601DB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33050-93FB-47EF-A9B4-5189D48A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C921A-F5A6-43D7-9639-965E6896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32DCD0-8920-46F4-A409-9CBF7DFB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E79A13-C78C-489D-AB2E-D8B359B0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8E4AE5-2683-49CA-BCB3-BA11DAB6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5299DF-71C9-41ED-AEBE-16372208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C7D813-76D3-4A2A-B1F1-A787ED7E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207703-5801-40DD-B8E8-8C86524E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7EFD97-7604-4ADB-B480-0AF08B68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9D17-FBDE-4F70-9E01-12CAD385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65E067-25F6-4B59-A483-F962E5EB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943EE9-3941-44E6-9DD4-8C99F4A0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6ACDC1-40FA-4F6E-83B9-F13391A3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7BD50-3F16-409B-ACE1-BCBBAA11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70783-1402-4CA6-91BA-2486AC7A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2CADA8-453D-4C06-9847-CBD1E07D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D9EB38-0666-4E4C-90AE-80CA8F8F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B29A83-3A02-4290-80C7-974AAB2D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F1B2A9-9B33-4615-B54E-18BCFDAE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E79EC8-8604-4B9F-B5D8-E4B7F050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6D62-77BE-4D46-89AF-0D943F81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47B916-17CD-4BEA-9B3E-6E21CDE2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E717BE-79C5-4A50-A39F-840B0D0D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46678A-7462-4154-9186-4A81F7A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F7C97D-2598-4500-994A-AF0A813D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095B61-09CB-43B6-981E-6AD8BE07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1FB07C-43CE-4A9F-9E07-47E0994E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1CF4BC-C869-4D58-91B9-0759C9BC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7AF0-858B-4FF3-9B82-1665B9AB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1E13-F2A0-4B7D-9A88-608FF3A9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0C6-3C6F-4FE1-8493-FCA5157D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36CC-CEAE-4220-83F3-370FE4C5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CC33-766E-4726-8F59-CFD123FD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07CA-3C67-4346-86C6-A81F5EC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46FE8-EC28-468F-8ECA-92CCBCDF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6EB0-9BD2-4D59-A6D4-89F1153D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23CF-CDD5-4642-8775-0B65F1C2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1AC6-8805-4B33-AEF4-84CE1202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8CCE0-EDF4-4ABB-878B-9F3A101C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97BE-DA28-4A9D-8043-1AE79C1F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7C3F-DC63-43E3-B830-44B0FCD8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A17-8AAF-4A23-8A51-346DBEED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6E2C9-617B-4E20-A6BC-24D905A7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8B6B4-2D30-4EF0-B47E-E9C45275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BDF0E-3546-4F47-A9CC-9081CB0C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9F57-2EA4-4B43-A335-D19E4FCF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7ADE3-D9CA-44DB-831C-7DF9B3AB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C0D92-B301-4B8C-8951-243BE4DC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86A14-2B00-498B-854E-3EC56603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253FD-8DD5-40BE-9A8F-DD81C127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DA46-824C-4C06-A9C9-0160342F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DF851-6764-474E-B783-EBA7AE41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94F-F1CD-4E08-9E41-5811DE60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2C3EA-14A2-460E-90B6-C6652074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5B5B2-33CE-4C67-AA3F-05482350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D5AE7-C6C9-464A-9F5A-F713F80C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13F42-65EE-4EC0-9045-36072171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FA609-DDEA-4092-874F-C32F0CA7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4D908-7821-4C9A-84FA-7838AAF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99E80-F200-48FB-B6B3-8796F31A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D39A8-1ED9-4F67-B6AD-F410A87E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326A-29B7-4AF4-BBC9-2EFEE851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2FC65-C590-4AAA-9CF8-09BB6DE2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746-2FFD-4BEE-8D05-38A8F0B3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A5CE3-14C4-4E4B-BF57-55061199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6F3CA-AF02-4C22-9705-0271E584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55642-A367-4E0E-83A0-6C5D9BA1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1AF6B-5401-4335-8B0B-9419626F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A322A-8236-4ECA-9C92-345B97D2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06F6A-4EF5-4FB1-BCDB-632CB495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00F91-EC94-4D8C-8843-7F276F5C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C53FF-6C91-430E-8DDD-5F12F746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BD195-3B76-4912-B06F-919C068C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A884-BDA0-4375-AB6A-ED1BCCA2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417-F9A5-444F-B3C9-EB4B45B0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7EF3B-2364-4B52-AD35-8C8958FC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C26FD-4041-488B-8EFB-3F4B3FEA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5CCC1-46EE-4D5A-803F-2BF566EC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358BA-138A-41A5-A318-E69431A4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145F3-F118-465B-9960-698F6926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E71CA-40DF-4F2C-8F5E-C27C224E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559E5-F57B-4AF6-ADD3-1D7F8A56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B25E0-7F4F-4134-BABD-815255D5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DF5B3-9789-40DC-A5D9-2B6B5DE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3781F-6CBD-4036-8C00-5049528F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16B-B6C7-4E93-AA6F-2DAD6154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F2473-6E75-43AF-805E-D5DF8703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E45E2-3D94-4644-AFAD-28E06E59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EAAE2-E998-451F-AD04-D31EA71E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49C9E-4E37-4B40-8051-9EA127E7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F2366-0FC4-4C84-9BFD-DE4ECCC0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2D1B6-63A8-4F6D-A72E-E052BE50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7E18F-0977-480F-B4DC-5DEBB140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B2CCE-7C4C-43E0-BDB4-E760E374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CE19B-BDE2-4A40-A384-4F04E6A2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3B633-60BC-4D09-B655-CC5C9DE2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8F6-9272-4A43-93F2-9FAE2A8B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72534-C863-4451-A5FC-3EE7571D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C3758-9C9A-45B8-88BF-BB9D22E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BA411-A078-429A-A2A6-E9F9EDA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E604A-E257-4FEC-8626-B09FFF7A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A5FEB-E355-464A-9BFA-9A4FC2A5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A3195-B84A-4EE0-A89E-E2C13AB2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285E3-7BD3-4823-B07C-87B87BEA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AB0AE-724A-44E2-B94F-F20FCB8C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93527-003D-410D-8818-CE818406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883DB-BD3D-40F6-BB94-10E5AFC2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364D-F4F1-4495-9CF7-BE1B69A50E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5EE5-8D6E-49AF-8CD8-D10910AAC8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C73B-FBEB-43CD-A5B5-BDA1BEE3D0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C86E-CC11-45C6-82DB-5F0FB42ECF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270E-746C-45FE-9E5D-A67FEFB7F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C0D8-7E3D-471E-8D4B-48EDBF0A8B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862A-791B-480F-8FAB-D33DF58022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16CE-0F66-4651-905C-A388FE71FD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F857-9619-4D48-A0C3-49FB304C89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AA4D-C47A-4379-B8A1-92F625D067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5DBD-542E-4E6D-A163-0C1EE15F09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9E23-3739-43F5-B82F-61745021E6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BEA5-0B79-4181-A3A7-F249782A1F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63D-E57C-47CA-A45F-6E61C4790A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457D-B247-44AF-A181-219CD18F87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13BF-47C6-40B4-99F4-1ECBB02C58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552E-5879-4FA7-8E9E-F89776F414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D823-FAB3-4A99-BF60-3308EB1A4A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7B66-EF81-45D9-B4EA-1F1D2CD1F5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19A9-09CB-4E7F-902E-F5A0BE341B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C3B7-DB14-4886-8366-16A3CF52C9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50C3-F864-4480-B88B-E8A256CE21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A7F7-B717-478B-86C8-C345C8B498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2569-D759-426C-9F62-D22FE3FD66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9798-7FB8-4A08-B52E-B18FD99F15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3B64-8AD7-492E-8F9A-4EB91D8A22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0185-1740-4F42-A907-465329DDC1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1111-BA22-4B48-B7FB-03079CD35C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1518-5429-4A83-9E6B-4D427970C0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1565-16C1-45B6-9252-72F7E4D420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39B2-AAB2-4ABC-BD86-23EFBC6322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85C7-C583-4FD0-B6E4-89F2BA1725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DAFA-2CE0-4FA7-8880-AF2CB59203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6701-30D7-4A25-B247-654AECD5BC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581B-4E47-4850-8FCC-8D50C52C6A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4E2A-405C-4C7F-8187-F83ACC9641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558-A746-4DFB-975C-748941073B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FAFF-C775-49F6-9E79-3DB304E16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F4DC-BB78-427C-9FAB-E5BFB5DF6F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D487-1272-4A2E-AA80-55794FF563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2DDB-C38B-4751-8C74-895B7EFA3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DDE8-0FC5-4365-8333-7F7E1C9B8A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781360" y="2924280"/>
            <a:ext cx="35812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2" descr=""/>
          <p:cNvPicPr/>
          <p:nvPr/>
        </p:nvPicPr>
        <p:blipFill>
          <a:blip r:embed="rId1"/>
          <a:stretch/>
        </p:blipFill>
        <p:spPr>
          <a:xfrm>
            <a:off x="209520" y="2195640"/>
            <a:ext cx="8724960" cy="24667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900000" y="2897280"/>
            <a:ext cx="547236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900000" y="4133880"/>
            <a:ext cx="5472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图片 1" descr=""/>
          <p:cNvPicPr/>
          <p:nvPr/>
        </p:nvPicPr>
        <p:blipFill>
          <a:blip r:embed="rId1"/>
          <a:stretch/>
        </p:blipFill>
        <p:spPr>
          <a:xfrm>
            <a:off x="195120" y="1281240"/>
            <a:ext cx="8751960" cy="42955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2"/>
          <a:stretch/>
        </p:blipFill>
        <p:spPr>
          <a:xfrm>
            <a:off x="1042920" y="2550960"/>
            <a:ext cx="5400720" cy="4064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5400720" cy="4064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4"/>
          <a:stretch/>
        </p:blipFill>
        <p:spPr>
          <a:xfrm>
            <a:off x="900000" y="5027760"/>
            <a:ext cx="540072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28600" y="727200"/>
            <a:ext cx="868680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2" descr=""/>
          <p:cNvPicPr/>
          <p:nvPr/>
        </p:nvPicPr>
        <p:blipFill>
          <a:blip r:embed="rId1"/>
          <a:stretch/>
        </p:blipFill>
        <p:spPr>
          <a:xfrm>
            <a:off x="185760" y="743040"/>
            <a:ext cx="8771040" cy="54943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611280" y="450864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11280" y="50418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611280" y="573408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349200" y="787320"/>
            <a:ext cx="8447040" cy="5953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684360" y="3213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5"/>
          <a:stretch/>
        </p:blipFill>
        <p:spPr>
          <a:xfrm>
            <a:off x="684360" y="4437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6"/>
          <a:stretch/>
        </p:blipFill>
        <p:spPr>
          <a:xfrm>
            <a:off x="755640" y="50706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7"/>
          <a:stretch/>
        </p:blipFill>
        <p:spPr>
          <a:xfrm>
            <a:off x="684360" y="568944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905040" y="2876400"/>
            <a:ext cx="7333920" cy="1105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2"/>
          <a:stretch/>
        </p:blipFill>
        <p:spPr>
          <a:xfrm>
            <a:off x="1258920" y="296856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37960" y="942840"/>
            <a:ext cx="8668080" cy="49723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2987640" y="4797360"/>
            <a:ext cx="1440000" cy="406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7704000" y="4797360"/>
            <a:ext cx="118908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4356000" y="5402160"/>
            <a:ext cx="1189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209520" y="885960"/>
            <a:ext cx="8724960" cy="53226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2"/>
          <a:stretch/>
        </p:blipFill>
        <p:spPr>
          <a:xfrm>
            <a:off x="4356000" y="852480"/>
            <a:ext cx="1079640" cy="406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3"/>
          <a:stretch/>
        </p:blipFill>
        <p:spPr>
          <a:xfrm>
            <a:off x="3348000" y="1455840"/>
            <a:ext cx="1079640" cy="4064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4"/>
          <a:stretch/>
        </p:blipFill>
        <p:spPr>
          <a:xfrm>
            <a:off x="7236000" y="2076480"/>
            <a:ext cx="1079280" cy="406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5"/>
          <a:stretch/>
        </p:blipFill>
        <p:spPr>
          <a:xfrm>
            <a:off x="7308720" y="2692440"/>
            <a:ext cx="1079640" cy="4064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6"/>
          <a:stretch/>
        </p:blipFill>
        <p:spPr>
          <a:xfrm>
            <a:off x="4500720" y="3300480"/>
            <a:ext cx="1366560" cy="4064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7"/>
          <a:stretch/>
        </p:blipFill>
        <p:spPr>
          <a:xfrm>
            <a:off x="826920" y="4537080"/>
            <a:ext cx="1366920" cy="4064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8"/>
          <a:stretch/>
        </p:blipFill>
        <p:spPr>
          <a:xfrm>
            <a:off x="7451640" y="5157720"/>
            <a:ext cx="1366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252360" y="671400"/>
            <a:ext cx="86374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166680" y="1038240"/>
            <a:ext cx="88092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1:5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